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3E6-461B-461B-B625-78E9C73E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475-813A-4108-8141-F645C4D0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D85-3537-4665-9DF7-A3E28954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62C-A4E0-4BF9-AE41-B42C8637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C3A-8861-4F20-9DE5-B53F1D7F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177-BC4D-4DD8-9A44-86DFCE30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473-63E5-4133-9CEB-34461AEE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343-BA03-45EE-8C3F-39D7AD3D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BE9-C639-4A87-8F3A-3D7F5BF3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DD0-8C96-4264-B96C-C03D7F2F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C0B-62EF-4065-9B0F-87E28D7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EF3-B294-4D02-A451-9AAABDE5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FE6C-25C7-496C-9066-054D8A12D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CYCLE OF LEARNING IS A FRAMEWORK FOR PROBLEM-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895840" cy="24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676520"/>
            <a:ext cx="2286000" cy="1159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ing, Refining, Exploring Problems To Be Solved For A Person or Persons Who Wants The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048120"/>
            <a:ext cx="6858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600200"/>
            <a:ext cx="25146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 To Find, Evaluate, Select, And Save Relevan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1523880"/>
            <a:ext cx="1828800" cy="15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zing And Processing Information From Research To Get Ready To Use To Create Report, Presentation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038480" y="2362320"/>
            <a:ext cx="1526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028840" y="2590920"/>
            <a:ext cx="6858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3352680"/>
            <a:ext cx="2210040" cy="52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ing Final Report, Presentation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638320" y="3581280"/>
            <a:ext cx="685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4267080"/>
            <a:ext cx="2362320" cy="52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ing The Solution To The Aud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791320" y="434304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5410080"/>
            <a:ext cx="1828800" cy="115956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tacognition To Improve Performance On The Next Problem-Solving Endeav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352680" y="457200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429000" y="51055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29000" y="4876560"/>
            <a:ext cx="17524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943600"/>
            <a:ext cx="4038480" cy="580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gital Tools Selected And Used To Increase Capacity To Do This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352680"/>
            <a:ext cx="2438280" cy="1797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 work towards presenting students with situations in which they find and solve problems with minimal scaffolding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rom teac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4952880"/>
            <a:ext cx="2971800" cy="824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ritical And Creative Thinking Skills Used Throughout The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PIRAL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ONTINUOUS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48080" y="3054240"/>
            <a:ext cx="3522600" cy="1492200"/>
          </a:xfrm>
          <a:custGeom>
            <a:avLst/>
            <a:gdLst/>
            <a:ahLst/>
            <a:rect l="l" t="t" r="r" b="b"/>
            <a:pathLst>
              <a:path w="2219" h="940">
                <a:moveTo>
                  <a:pt x="2219" y="0"/>
                </a:moveTo>
                <a:cubicBezTo>
                  <a:pt x="1979" y="23"/>
                  <a:pt x="1737" y="28"/>
                  <a:pt x="1496" y="37"/>
                </a:cubicBezTo>
                <a:cubicBezTo>
                  <a:pt x="1401" y="68"/>
                  <a:pt x="1329" y="77"/>
                  <a:pt x="1226" y="86"/>
                </a:cubicBezTo>
                <a:cubicBezTo>
                  <a:pt x="1179" y="101"/>
                  <a:pt x="1127" y="123"/>
                  <a:pt x="1079" y="135"/>
                </a:cubicBezTo>
                <a:cubicBezTo>
                  <a:pt x="1011" y="152"/>
                  <a:pt x="939" y="155"/>
                  <a:pt x="871" y="172"/>
                </a:cubicBezTo>
                <a:cubicBezTo>
                  <a:pt x="792" y="191"/>
                  <a:pt x="715" y="219"/>
                  <a:pt x="638" y="245"/>
                </a:cubicBezTo>
                <a:cubicBezTo>
                  <a:pt x="545" y="276"/>
                  <a:pt x="442" y="264"/>
                  <a:pt x="344" y="270"/>
                </a:cubicBezTo>
                <a:cubicBezTo>
                  <a:pt x="319" y="278"/>
                  <a:pt x="286" y="273"/>
                  <a:pt x="270" y="294"/>
                </a:cubicBezTo>
                <a:cubicBezTo>
                  <a:pt x="240" y="334"/>
                  <a:pt x="219" y="381"/>
                  <a:pt x="184" y="417"/>
                </a:cubicBezTo>
                <a:cubicBezTo>
                  <a:pt x="172" y="429"/>
                  <a:pt x="158" y="440"/>
                  <a:pt x="148" y="454"/>
                </a:cubicBezTo>
                <a:cubicBezTo>
                  <a:pt x="74" y="559"/>
                  <a:pt x="175" y="452"/>
                  <a:pt x="86" y="539"/>
                </a:cubicBezTo>
                <a:cubicBezTo>
                  <a:pt x="65" y="604"/>
                  <a:pt x="23" y="658"/>
                  <a:pt x="0" y="723"/>
                </a:cubicBezTo>
                <a:cubicBezTo>
                  <a:pt x="76" y="940"/>
                  <a:pt x="7" y="780"/>
                  <a:pt x="589" y="748"/>
                </a:cubicBezTo>
                <a:cubicBezTo>
                  <a:pt x="684" y="743"/>
                  <a:pt x="817" y="687"/>
                  <a:pt x="920" y="674"/>
                </a:cubicBezTo>
                <a:cubicBezTo>
                  <a:pt x="994" y="649"/>
                  <a:pt x="1057" y="594"/>
                  <a:pt x="1128" y="564"/>
                </a:cubicBezTo>
                <a:cubicBezTo>
                  <a:pt x="1184" y="541"/>
                  <a:pt x="1253" y="529"/>
                  <a:pt x="1312" y="515"/>
                </a:cubicBezTo>
                <a:cubicBezTo>
                  <a:pt x="1339" y="509"/>
                  <a:pt x="1439" y="491"/>
                  <a:pt x="1483" y="478"/>
                </a:cubicBezTo>
                <a:cubicBezTo>
                  <a:pt x="1508" y="471"/>
                  <a:pt x="1557" y="454"/>
                  <a:pt x="1557" y="454"/>
                </a:cubicBezTo>
                <a:cubicBezTo>
                  <a:pt x="1630" y="405"/>
                  <a:pt x="1704" y="356"/>
                  <a:pt x="1777" y="306"/>
                </a:cubicBezTo>
                <a:cubicBezTo>
                  <a:pt x="1788" y="299"/>
                  <a:pt x="1803" y="300"/>
                  <a:pt x="1814" y="294"/>
                </a:cubicBezTo>
                <a:cubicBezTo>
                  <a:pt x="1840" y="280"/>
                  <a:pt x="1888" y="245"/>
                  <a:pt x="1888" y="245"/>
                </a:cubicBezTo>
                <a:cubicBezTo>
                  <a:pt x="1926" y="187"/>
                  <a:pt x="1935" y="217"/>
                  <a:pt x="1974" y="159"/>
                </a:cubicBezTo>
                <a:cubicBezTo>
                  <a:pt x="1998" y="88"/>
                  <a:pt x="1967" y="155"/>
                  <a:pt x="2023" y="98"/>
                </a:cubicBezTo>
                <a:cubicBezTo>
                  <a:pt x="2033" y="88"/>
                  <a:pt x="2038" y="73"/>
                  <a:pt x="2047" y="61"/>
                </a:cubicBezTo>
                <a:cubicBezTo>
                  <a:pt x="2050" y="56"/>
                  <a:pt x="2055" y="53"/>
                  <a:pt x="2059" y="49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5160" y="3987720"/>
            <a:ext cx="3151440" cy="1168560"/>
          </a:xfrm>
          <a:custGeom>
            <a:avLst/>
            <a:gdLst/>
            <a:ahLst/>
            <a:rect l="l" t="t" r="r" b="b"/>
            <a:pathLst>
              <a:path w="1985" h="736">
                <a:moveTo>
                  <a:pt x="1985" y="0"/>
                </a:moveTo>
                <a:cubicBezTo>
                  <a:pt x="1895" y="4"/>
                  <a:pt x="1805" y="3"/>
                  <a:pt x="1716" y="13"/>
                </a:cubicBezTo>
                <a:cubicBezTo>
                  <a:pt x="1658" y="19"/>
                  <a:pt x="1602" y="43"/>
                  <a:pt x="1544" y="49"/>
                </a:cubicBezTo>
                <a:cubicBezTo>
                  <a:pt x="1499" y="53"/>
                  <a:pt x="1454" y="58"/>
                  <a:pt x="1409" y="62"/>
                </a:cubicBezTo>
                <a:cubicBezTo>
                  <a:pt x="1291" y="101"/>
                  <a:pt x="1257" y="111"/>
                  <a:pt x="1127" y="123"/>
                </a:cubicBezTo>
                <a:cubicBezTo>
                  <a:pt x="1029" y="147"/>
                  <a:pt x="932" y="176"/>
                  <a:pt x="833" y="196"/>
                </a:cubicBezTo>
                <a:cubicBezTo>
                  <a:pt x="748" y="254"/>
                  <a:pt x="826" y="210"/>
                  <a:pt x="637" y="233"/>
                </a:cubicBezTo>
                <a:cubicBezTo>
                  <a:pt x="599" y="238"/>
                  <a:pt x="564" y="263"/>
                  <a:pt x="527" y="270"/>
                </a:cubicBezTo>
                <a:cubicBezTo>
                  <a:pt x="439" y="287"/>
                  <a:pt x="328" y="289"/>
                  <a:pt x="245" y="294"/>
                </a:cubicBezTo>
                <a:cubicBezTo>
                  <a:pt x="204" y="308"/>
                  <a:pt x="163" y="318"/>
                  <a:pt x="122" y="331"/>
                </a:cubicBezTo>
                <a:cubicBezTo>
                  <a:pt x="84" y="370"/>
                  <a:pt x="56" y="411"/>
                  <a:pt x="24" y="454"/>
                </a:cubicBezTo>
                <a:cubicBezTo>
                  <a:pt x="12" y="502"/>
                  <a:pt x="0" y="523"/>
                  <a:pt x="24" y="576"/>
                </a:cubicBezTo>
                <a:cubicBezTo>
                  <a:pt x="31" y="592"/>
                  <a:pt x="51" y="599"/>
                  <a:pt x="61" y="613"/>
                </a:cubicBezTo>
                <a:cubicBezTo>
                  <a:pt x="106" y="675"/>
                  <a:pt x="61" y="652"/>
                  <a:pt x="122" y="687"/>
                </a:cubicBezTo>
                <a:cubicBezTo>
                  <a:pt x="138" y="696"/>
                  <a:pt x="154" y="704"/>
                  <a:pt x="171" y="711"/>
                </a:cubicBezTo>
                <a:cubicBezTo>
                  <a:pt x="195" y="721"/>
                  <a:pt x="245" y="736"/>
                  <a:pt x="245" y="736"/>
                </a:cubicBezTo>
                <a:cubicBezTo>
                  <a:pt x="359" y="732"/>
                  <a:pt x="474" y="730"/>
                  <a:pt x="588" y="723"/>
                </a:cubicBezTo>
                <a:cubicBezTo>
                  <a:pt x="637" y="720"/>
                  <a:pt x="687" y="695"/>
                  <a:pt x="735" y="687"/>
                </a:cubicBezTo>
                <a:cubicBezTo>
                  <a:pt x="859" y="668"/>
                  <a:pt x="972" y="652"/>
                  <a:pt x="1091" y="613"/>
                </a:cubicBezTo>
                <a:cubicBezTo>
                  <a:pt x="1159" y="568"/>
                  <a:pt x="1199" y="552"/>
                  <a:pt x="1274" y="527"/>
                </a:cubicBezTo>
                <a:cubicBezTo>
                  <a:pt x="1299" y="519"/>
                  <a:pt x="1348" y="503"/>
                  <a:pt x="1348" y="503"/>
                </a:cubicBezTo>
                <a:cubicBezTo>
                  <a:pt x="1427" y="450"/>
                  <a:pt x="1526" y="458"/>
                  <a:pt x="1605" y="405"/>
                </a:cubicBezTo>
                <a:cubicBezTo>
                  <a:pt x="1659" y="324"/>
                  <a:pt x="1593" y="405"/>
                  <a:pt x="1679" y="356"/>
                </a:cubicBezTo>
                <a:cubicBezTo>
                  <a:pt x="1694" y="347"/>
                  <a:pt x="1702" y="330"/>
                  <a:pt x="1716" y="319"/>
                </a:cubicBezTo>
                <a:cubicBezTo>
                  <a:pt x="1739" y="301"/>
                  <a:pt x="1789" y="270"/>
                  <a:pt x="1789" y="270"/>
                </a:cubicBezTo>
                <a:cubicBezTo>
                  <a:pt x="1817" y="229"/>
                  <a:pt x="1852" y="207"/>
                  <a:pt x="1887" y="172"/>
                </a:cubicBezTo>
                <a:cubicBezTo>
                  <a:pt x="1896" y="144"/>
                  <a:pt x="1982" y="13"/>
                  <a:pt x="1899" y="1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3526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200400"/>
            <a:ext cx="2361960" cy="1882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s Work Over Time So That The Problem-Solver Continuously Impr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638680" y="3352680"/>
            <a:ext cx="6098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6920" y="3429000"/>
            <a:ext cx="38124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YCLE AND GEA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“WHOLE” PROBLEM-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867280" cy="4495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19920" y="2286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-SOLV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276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RESPONSIBILITY &amp; WORK HA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581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876560" y="1676520"/>
            <a:ext cx="68580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24280" y="2666880"/>
            <a:ext cx="137160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553080" y="4267080"/>
            <a:ext cx="53352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3962520"/>
            <a:ext cx="9144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29528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blem-Solving Requires That All These Capacities Impro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54:29Z</dcterms:created>
  <dc:creator>User</dc:creator>
  <dc:description/>
  <dc:language>en-US</dc:language>
  <cp:lastModifiedBy>User</cp:lastModifiedBy>
  <dcterms:modified xsi:type="dcterms:W3CDTF">2011-10-12T21:14:50Z</dcterms:modified>
  <cp:revision>129</cp:revision>
  <dc:subject/>
  <dc:title>Slide 1</dc:title>
</cp:coreProperties>
</file>